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782C-EE00-4E17-84C7-65B2A00C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C6E-7710-43E5-9789-C0BF28AD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4263-7B41-4CF3-BC7E-4E62BFFF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8587-5767-4288-A339-61C9E5F2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D307-7E8B-4A19-B495-03291F8B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5D3B-E589-4E6D-AE47-0746752E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F8A2-ACC9-445B-A32E-9D771BBF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3CD5-D307-48F0-B618-518C478D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5AEF-E0AE-4A95-820E-BF6AFDC8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70F1-3124-4F3C-84DB-4005F9B6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7528-57E6-47BB-A6FC-E2F10629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24D3-0B60-4756-8F02-0AF364C5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5BD6-A162-4B80-96CF-7760BDCB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DF1C-E24F-402A-AED7-EB2969AB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FD7A-DCF9-41E3-8EE9-242B1566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47DC-21F9-4C69-BF73-437C63DD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59F2-9E8F-4624-910E-562EE84D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280CC-1DD6-4CD5-974C-9E239A8A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C9A46-7285-4F54-82CA-5B4507CF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26963-C70F-4BD1-AB72-79A1E0E4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DD587-46F6-4EA2-A98B-AF48DACE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FCC70-F71B-41C4-891B-17473B1E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315-E4EC-4CE4-B9B0-C1FBB555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EA773-C307-4D59-9993-7CD20A08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8A8DD-F62E-4A34-AF5E-043BC6C2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0D1F2-2AFB-48C2-992E-23F58D66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5214F-78AC-47D3-9530-BF253564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8D5FE-9D64-45B7-B755-1A5FD61D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56B24-CDC6-4551-BA2B-55EFCB8A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F5D2D-C479-4FD7-9E62-D1E6CB28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6660B-5BA2-4576-B7D6-AD3BC29B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5E183-F339-49D8-A450-96C63D5C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61659-7007-4890-A7C3-5F3C030E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04E-59FC-44E0-84E1-52CF46B8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220D3-C139-4970-97F0-75221038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C62F1-01B1-408A-A956-B0A17405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58B3A-E206-4840-8F53-6E0E1B9D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185FC-1958-4902-A514-5A70126D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0A78E-832A-4E05-87C4-5DFC5366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8E9DC-FADD-44AF-87A6-4B3DA03E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EA4B2-2431-4F07-AB0D-2D489132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D19E1-B2F7-42C9-88F9-ADB5DFF2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5EAEF-870F-4291-9CD3-03B1CA87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0426A-5121-4A2C-A78E-5BA6C920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298-9570-4059-90A8-909E0230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872B3-0C71-4288-9609-C80299B0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1F265-6294-4C81-9266-40E6F074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1D0A1-961F-40AC-8B37-F41E225E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618B1-AAF9-4260-BC31-F48E8212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60BBF-BAC9-4D80-9871-2EBFA9E0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E7BE6-99B3-47EF-83D4-3EC1DE32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FAFAE-6ADE-434D-B566-7C42D45E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A20D7-FBB5-4841-A295-A352EB4C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EB776-BBDB-4A5D-B132-A746289E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2FA4C-3C78-4037-9887-8263F98D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F03-4502-482B-A122-FC739BAD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38088-0326-4547-B18D-844DA728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02A05-BEC4-4802-9DF7-FAC7F72E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01445-9373-4945-902E-F9BAD951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85FA7-F288-4A96-B559-20CB531E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676D0-12BF-4C95-81B4-B7057A01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F9056-BD36-4E63-BA70-AA12BDEB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D5393-B165-440D-A273-31A84895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8BC10-B107-4CCB-8759-CD4571A5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12C29-40A1-476F-856F-DF700233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6F355-FB98-4E9B-B785-BC42F092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A8B-C123-4172-8444-B18141E0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BA471-ACF3-4B3C-8490-669B9F9C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D16D8-9B51-4171-B053-B4E8FD57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EFA03-D366-45F9-B1BD-8202A3A8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C9B-520F-4EEE-803B-54D8D4EC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D2F-B082-4512-A8D0-9BAAA32B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F815-F378-4B0F-9836-D220B1A5FB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8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E189-1689-4F39-AC79-B694CD79BD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72C8-D760-4C12-B05B-8DFA8F1F0B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5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37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1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FDF8-2784-4716-9238-E0B580EF1F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D85C-C787-48A4-A62C-F4FF047E8E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089E-6E09-4200-9CD5-58E8CA3A29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dex Car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295280" y="1523880"/>
          <a:ext cx="6934320" cy="502920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DE ONE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one with no lin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a symbol that symbolizes 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DE 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 birth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your parents speak (if English and another language put both languag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 phone number or parents’ cell 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 email address: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I (check marks for computer, printer, intern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0" name="Picture 19" descr="j0217698"/>
          <p:cNvPicPr/>
          <p:nvPr/>
        </p:nvPicPr>
        <p:blipFill>
          <a:blip r:embed="rId1"/>
          <a:stretch/>
        </p:blipFill>
        <p:spPr>
          <a:xfrm>
            <a:off x="3733920" y="2286000"/>
            <a:ext cx="148428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38280" y="152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troduction Lett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361960" y="838080"/>
            <a:ext cx="6629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rite a letter introducing yourself to m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gin with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Dear Mr. Engstrand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rite neatly and legibly (clearly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lf a page minimum, one page maxim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opics to guide your wri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ies/hobbies you enj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academic history (how you perform in 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behavioral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eachers do that you enj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eachers do that you do not enj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you’re feeling right n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your friends would describe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your family would describe you</a:t>
            </a:r>
            <a:r>
              <a:rPr b="0" lang="en-US" sz="19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thing else you think I should know about you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106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at I like to read” paragrap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rite a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opic sentenc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Ex:  I really enjoy reading my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email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rite three to five sentences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xplaining why you like to read thi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rite a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ncluding sentenc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Ex:  Email is definitely my favorit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reading materi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01:03:47Z</dcterms:created>
  <dc:creator>teacher</dc:creator>
  <dc:description/>
  <dc:language>en-US</dc:language>
  <cp:lastModifiedBy>Tengstrand</cp:lastModifiedBy>
  <dcterms:modified xsi:type="dcterms:W3CDTF">2010-09-08T17:52:27Z</dcterms:modified>
  <cp:revision>112</cp:revision>
  <dc:subject/>
  <dc:title>August 18    Respect</dc:title>
</cp:coreProperties>
</file>